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B0C-7EC2-47DA-A1D1-2FC4D0D3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EBD-1FB3-4DBD-A100-E69764FC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94F-CA61-4E51-93A8-1660897B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52E-392F-4F04-ABCD-54407AEA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37D-0D52-4452-8655-21C347CE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CE2-F5F3-4C2A-8245-85E97984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182-8EA7-4C8C-A4F3-89EF6942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269-4DD0-432B-82FD-3260B1A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7F4-C57F-4E3A-8F25-97D02A86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202-8DB3-4216-8D8C-1CFB6654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C00-CB8C-41DC-A35E-6FFC91A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C09-9D43-4384-82BD-02A08DA1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8BF1-E8E5-488A-8D99-53F6E0F4770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Calibri"/>
              </a:rPr>
              <a:t>Demographic Transition Mode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relationship between birth rate and death rate has been used to create a four stage model of a country's population change, called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emographic model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untries which are described as being developed have reached Stage 4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UK is one of thes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ther countries are at different stages of their development, and therefore occupy different places on the model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birth rate (BR) and high death rate (DR), both around 35 per 100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ns a relatively slow population growth. High BR due to no contraception and the need for large famil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BR due to diseases, poor health care, poor water quality, and a poor food supp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K was at this stage in the period up to 175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a few remote indigenous tribes, in places such as the Amazon rainforest, exhibit these characteristics nowad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BR remains high, at around 35 per 1000, but DR falls to about 20 per 1000 by the end of the stag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DR falls due to improvements in health care, sanitation and water qualit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re is also increased access to medicines and foo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UK was in this period between 1750 and 1880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untries such as Bangladesh, Libya and Nigeria are currently in this stage of their developmen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 falls rapidly to near 20 per 1000, and DR continues to slowly fall to around 15 per 1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ll in the BR is due to better access to contraception, more family planning education, working women getting married and having children later, less need for children as a labour sour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 continues to fall as health care improves further, and sanitation conditions impro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K was in this stage between 1880 and 195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ies passing through this stage at present include China and Argenti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 and DR low, at under 10 per 1000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though there may be some annual fluctuations population growth is close to zero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UK is in this stage at the moment, along with countries such as the United States and Japa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 has been suggested that a new fifth stage should be added to the model, due to some countries, such as Sweden and France, having higher DR than BR, so that their populations are actually fal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hs-geography.ism-online.org/files/2010/09/demographic_transition_detailed.jpg"/>
          <p:cNvPicPr/>
          <p:nvPr/>
        </p:nvPicPr>
        <p:blipFill>
          <a:blip r:embed="rId1"/>
          <a:stretch/>
        </p:blipFill>
        <p:spPr>
          <a:xfrm>
            <a:off x="-14400" y="0"/>
            <a:ext cx="914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3:51:01Z</dcterms:created>
  <dc:creator>Dell_02</dc:creator>
  <dc:description/>
  <dc:language>en-US</dc:language>
  <cp:lastModifiedBy>Dell_02</cp:lastModifiedBy>
  <dcterms:modified xsi:type="dcterms:W3CDTF">2011-01-25T04:03:02Z</dcterms:modified>
  <cp:revision>2</cp:revision>
  <dc:subject/>
  <dc:title>Demographic Transition Model</dc:title>
</cp:coreProperties>
</file>